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9FF3-FFB6-4F1E-846A-035621458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CBB2-D441-49CF-A7F2-45D2F5DA7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7D0F5-74DE-4812-B82B-2AE81F4F0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D15B5-6425-4A4E-8FAD-145E417CA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9F1CC-1B1F-4410-82CB-2084A9406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1562E-5A3C-4835-BCCC-2F28307399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31B-473D-4BB8-8539-E2732B31108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9F56-1A71-436A-9F92-BD1C50645B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7B7B-C360-4C82-B534-C330B648DC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2CCD-DB7B-488B-AC5A-829F9D0ACF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F91D-6034-4B3C-B184-DBB1B48B6F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55BA-ECA8-4B8C-87E6-3459577FDE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6295-8F5F-4953-98DC-60AFFB0826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087EF-80BD-4AFA-940C-0334CF648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44E5-138E-435C-800A-97D679BE052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A77E-4AB2-4090-9C00-8340898066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AD35-9CB5-4F21-AA2F-DF62EBF828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D18B-7ED8-4883-8039-327FCE0CB8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D969-2E0B-4995-BF85-051064EF3A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6EF27-BDBC-4C2A-985C-80F7D49D20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8ECDF-9F9F-4E0B-B451-3D5B117FE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9F8B6-EA31-46AB-89CA-3E5988CD4C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477AF-A238-4538-BCED-2AC4FAD4C9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4DDC4-B939-43CC-B382-E7494EAC3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C1F0E-4DFF-498D-BC44-5CFCEE982B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E3DD1-2D04-4896-8094-605CE7697B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mprovement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8C44-C91C-493E-B3E6-102732303B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6A08-2BF2-4754-9E77-6E5374572B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1"/>
          <p:cNvSpPr/>
          <p:nvPr/>
        </p:nvSpPr>
        <p:spPr>
          <a:xfrm>
            <a:off x="457200" y="642924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AEE3-FC42-4F16-BA2D-050745184A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3124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062000"/>
            <a:ext cx="845820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«В вашей лаборатории были выявлены проблемы с пробами, поступающими в лабораторию из определенной поликлиники. Некоторые пробы транспортировались в лабораторию явно с задержкой, а ряд проб был собран в неподходящие контейнеры. Эти проблемы приводили к задержкам в выполнении анализов и к отказам в приеме проб. Для исправления ситуации был проведен ряд улучшений в ведении записей и на месте сбора проб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90720" y="48769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2-08-04T06:45:48Z</dcterms:modified>
  <cp:revision>66</cp:revision>
  <dc:subject/>
  <dc:title>Slide 1</dc:title>
</cp:coreProperties>
</file>